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8.jpeg" ContentType="image/jpeg"/>
  <Override PartName="/ppt/media/image5.png" ContentType="image/png"/>
  <Override PartName="/ppt/media/image18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7.png" ContentType="image/png"/>
  <Override PartName="/ppt/media/image1.jpeg" ContentType="image/jpeg"/>
  <Override PartName="/ppt/media/image10.png" ContentType="image/png"/>
  <Override PartName="/ppt/media/image6.jpeg" ContentType="image/jpeg"/>
  <Override PartName="/ppt/media/image9.jpeg" ContentType="image/jpeg"/>
  <Override PartName="/ppt/media/image11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01512-3AC7-4D19-81B0-A8F469994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67863-F7EE-4405-A1B3-01E90F39E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BD18A9-9A52-4385-9AB9-CC5FEB302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1B61FF-5608-48CD-AD60-C047E274C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5CDB59-6FC8-4BD0-8F59-6D1D1E45C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C2FFCB-BC15-4EEF-A3E4-812009542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ADCB70-067B-4228-AF34-8EE759711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999668-C78E-49FE-B4ED-BB5D1CA5A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71EC14-8C95-4E59-B345-ABA9701DE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917877-F7C6-4795-983D-F9188B28A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14B44C-5040-4E4B-8468-EE8229F74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C681C-9D4E-4256-838A-B51A26E75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904CD-6855-4D31-A191-A8CB01A51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F2A83-6D77-4355-8EC9-535A00D55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01825-8F56-450C-81DC-FE07964BD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30562-AB8B-4A0D-90F9-210C060E8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721FD-82F3-4A6B-B98C-EBE6E5F69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61666-7D75-4DB3-8DA9-AB940E7ED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5930B-EE37-4323-ADEE-BB9FE3FA1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F78EA-7A59-4F22-A49B-975241A3A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84578-00C2-429A-BC47-5A32D5136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211FF-370A-4821-9FCC-00BA0A4D5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3FE36-05FE-4675-978B-2B5955C66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2BFA3-4EE1-4FB2-A8BC-6921FBE96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8E5C6-C2DC-49BE-A6AA-4719C916A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13F46-2DD6-441F-95EC-11A4A8017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C71730-B4F7-40F9-AB9E-F073E176B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705B64-083A-43EE-9BFE-80F1D5E53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FB5BAF-2EAA-4C34-9C1A-CC8BC6D81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CB08E8-2BA8-4B6D-891E-0A6BCCBAA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17892E-F982-49CE-AB08-BBBBA8575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850BB-ED0D-4AD2-BB4F-9E04E4EF4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F8DFAB-CC42-4950-874A-394C7DD68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CEEF21-9888-430F-BF5D-8F6D3B879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7219C7-23B5-4273-94AA-ECF374E23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6F8E94-37B1-45F3-8401-89C9E4CB2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6BB4F7-7886-4260-86D3-5B8D21500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04BCF0-BC11-41D2-8927-FAFB5E6CC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82A8A6-3F24-4FBD-A40A-816479773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BEA49B-3530-4292-8D4E-5F1420C2C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97DD59-3BB6-4F74-B6D0-7157C72B0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BF2AD8-9025-4670-AC55-7FEB7838D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CC452-8618-4F4B-A809-BD3D2E054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86B9D4-33E1-4288-B41C-4BE6C12D0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7626D5-DD74-4F72-8524-DDC6D4583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801FE4-77AD-42C6-A5F4-3BBEE5F15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F88C60-398D-4BA8-AE27-EC42CAE6D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81EEB3-9B4A-4B36-BEE9-0C997168E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6A40B8-6286-4274-844D-04F2F33CE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028544-8EE3-4283-8EB8-B40B3C339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51BAA3-49D8-405C-83ED-6A7D98520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7752F5-231A-4AD2-9459-7CB55F023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8C0F7B-EE4C-4240-959E-869AC7081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E9829-6209-49C2-A4A0-946A15F4A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2E9688-666B-4854-9FE5-D87A15206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AEAC80-4BDE-4CA7-A1AB-F36194659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9A4BBB-9D01-498E-9908-8D73800BD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F5E136-9C78-4915-827A-9EF45C906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D6B1DB-BD99-4090-AFBC-B18528449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BC38B3-7D1C-4372-9A50-493FDADDB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3AD7C8-227F-4F63-9C0A-2B22CDFE4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DAE3EC-CFDD-467F-A772-98B4932C5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443909-D126-49E5-8F52-6A6312295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05353A-EAEA-4399-95E0-498E99FE0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2A9CC-4D7D-4845-8307-640452A55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8AA85A-F4F5-45CA-8EE7-097A24038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66A2F8-9E8D-408D-B78E-52DA36828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F8225F-B23B-4471-9BB6-09FF769AC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221FB1-073C-4B10-855A-B2EFF8C76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A697F8-6446-4C94-A90E-D024A0017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B509FB-885F-4C6D-90F8-25FDD9B9A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13B87E-2F83-42E4-8465-4475F5CA8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E207AC-BE08-4FC4-A61B-6D185D450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35BCDF-447C-4A78-91C6-AC487F3A0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DCB5E4-1F19-48CC-8459-F9DB79DCC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7A863-05BF-4199-A299-8928D19D5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CB90A6-1080-4474-B7CA-2B7201646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7FE1B0-2B02-4F16-80AC-32311CBC0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564B52-D64E-4CBF-99D6-67A004084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5E24F6-903D-442B-92A0-0022C3A03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9DE538-196C-4A53-B892-E639E1DF5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BC1284-9243-410B-A83E-4C0BFA2BB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F5A8F2-11B8-4754-AC65-21D8706EF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0375EB-2156-42A0-8587-EDE52C2A0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0F6FB9-4DED-41BF-8056-18BF4734B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0FFA1E-2900-454A-82BC-E7287F325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6FDB0-4EB4-4857-99C2-254135156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CE8772-B54E-470A-861D-020EC9911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186A26-8B72-4695-87A8-4B43F2982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6E2CD6-2B7E-4EC7-8CF6-BAFBA38A9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6D8EA4-0255-43A3-988D-E0B06AA47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DD56B6-386E-4633-8283-9A072E6C8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E3B123-1683-443F-8ADB-386D8DA06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7D7A0D-499E-41CE-B11A-1BC05F8A6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DE3F22-5372-44E1-90B9-3108FF7D3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D670D4-8C10-4CDE-8135-66068D11A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5600A6-F773-4212-AE49-6587B9B81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0A60C-4B13-41F4-8B38-2AFFA4A44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98E57D-5647-4188-AF5B-3CAC8D24A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3BA98F-78C5-4B62-BCE6-B2B459FE8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6BFBE6-5C1B-402F-BD2D-C65B9C84A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6C2128-BF39-42EA-9F7E-8970F98AD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A5DD6A-2734-4C23-9735-F9311BC9C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B63CF2-99A5-4A2A-B724-C65BE81EB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8AD786-8233-40D8-A720-CEA56EE01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88566C-4346-4E4B-BBFF-EC229EE89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4EC560-C809-445E-A75B-A0FA40ABF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CA6535-B327-4485-9484-A823988F7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Connecteur droit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Connecteur droit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1CDF1-29BB-46B5-9D29-D937E6BF7283}" type="slidenum">
              <a:rPr b="0" lang="fr-FR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Connecteur droit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Connecteur droit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1" name="Connecteur droit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Connecteur droit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Connecteur droit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Connecteur droit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97FDB-D5E1-414F-A979-BA161F39E885}" type="slidenum">
              <a:rPr b="0" lang="fr-FR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Connecteur droit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Connecteur droit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97" name="Connecteur droit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Connecteur droit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00" name="Connecteur droit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Connecteur droit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4C06C-7EA2-4F8C-BF8A-6CA41C24CCC3}" type="slidenum">
              <a:rPr b="0" lang="fr-FR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Connecteur droit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Connecteur droit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D0332-71F5-4817-B6CB-81069273FAE4}" type="slidenum">
              <a:rPr b="0" lang="fr-FR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Connecteur droit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Connecteur droit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77840-AF4A-4F72-B236-C4C799978C61}" type="slidenum">
              <a:rPr b="0" lang="fr-FR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D1D56-5832-4EAC-ACED-09F496117092}" type="slidenum">
              <a:rPr b="0" lang="fr-FR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Connecteur droit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Connecteur droit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48F83-210E-496B-AE70-D4BA6D55F592}" type="slidenum">
              <a:rPr b="0" lang="fr-FR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EA454-5936-4CD7-A43C-8BEEE2EF77C0}" type="slidenum">
              <a:rPr b="0" lang="fr-FR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A8475-38EB-4D15-A3BC-F5DF2A377F02}" type="slidenum">
              <a:rPr b="0" lang="fr-FR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Titre 3" descr=""/>
          <p:cNvPicPr/>
          <p:nvPr/>
        </p:nvPicPr>
        <p:blipFill>
          <a:blip r:embed="rId1"/>
          <a:stretch/>
        </p:blipFill>
        <p:spPr>
          <a:xfrm>
            <a:off x="512640" y="622440"/>
            <a:ext cx="7979040" cy="1566720"/>
          </a:xfrm>
          <a:prstGeom prst="rect">
            <a:avLst/>
          </a:prstGeom>
          <a:ln w="0">
            <a:noFill/>
          </a:ln>
        </p:spPr>
      </p:pic>
      <p:pic>
        <p:nvPicPr>
          <p:cNvPr id="400" name="Image 6" descr="D:\philippe collège\B InSight\activité sismo proposition\20190421_191646.jpg"/>
          <p:cNvPicPr/>
          <p:nvPr/>
        </p:nvPicPr>
        <p:blipFill>
          <a:blip r:embed="rId2"/>
          <a:stretch/>
        </p:blipFill>
        <p:spPr>
          <a:xfrm>
            <a:off x="1785960" y="1857240"/>
            <a:ext cx="5143320" cy="328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Titr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pic>
        <p:nvPicPr>
          <p:cNvPr id="402" name="Image 4" descr="D:\philippe collège\B InSight\activité sismo proposition\avec bois.JPG"/>
          <p:cNvPicPr/>
          <p:nvPr/>
        </p:nvPicPr>
        <p:blipFill>
          <a:blip r:embed="rId2"/>
          <a:stretch/>
        </p:blipFill>
        <p:spPr>
          <a:xfrm>
            <a:off x="928800" y="3500280"/>
            <a:ext cx="7286400" cy="3214800"/>
          </a:xfrm>
          <a:prstGeom prst="rect">
            <a:avLst/>
          </a:prstGeom>
          <a:ln w="0">
            <a:noFill/>
          </a:ln>
        </p:spPr>
      </p:pic>
      <p:pic>
        <p:nvPicPr>
          <p:cNvPr id="403" name="Image 5" descr="D:\philippe collège\B InSight\activité sismo proposition\20190425_150526.jpg"/>
          <p:cNvPicPr/>
          <p:nvPr/>
        </p:nvPicPr>
        <p:blipFill>
          <a:blip r:embed="rId3"/>
          <a:stretch/>
        </p:blipFill>
        <p:spPr>
          <a:xfrm>
            <a:off x="4643280" y="357120"/>
            <a:ext cx="3500640" cy="2857680"/>
          </a:xfrm>
          <a:prstGeom prst="rect">
            <a:avLst/>
          </a:prstGeom>
          <a:ln w="0">
            <a:noFill/>
          </a:ln>
        </p:spPr>
      </p:pic>
      <p:grpSp>
        <p:nvGrpSpPr>
          <p:cNvPr id="404" name="Groupe 8"/>
          <p:cNvGrpSpPr/>
          <p:nvPr/>
        </p:nvGrpSpPr>
        <p:grpSpPr>
          <a:xfrm>
            <a:off x="357120" y="4214880"/>
            <a:ext cx="642960" cy="1857240"/>
            <a:chOff x="357120" y="4214880"/>
            <a:chExt cx="642960" cy="1857240"/>
          </a:xfrm>
        </p:grpSpPr>
        <p:sp>
          <p:nvSpPr>
            <p:cNvPr id="405" name="Ellipse 6"/>
            <p:cNvSpPr/>
            <p:nvPr/>
          </p:nvSpPr>
          <p:spPr>
            <a:xfrm>
              <a:off x="357120" y="4214880"/>
              <a:ext cx="642960" cy="642960"/>
            </a:xfrm>
            <a:prstGeom prst="ellipse">
              <a:avLst/>
            </a:prstGeom>
            <a:solidFill>
              <a:srgbClr val="f0a22e"/>
            </a:solidFill>
            <a:ln w="25560">
              <a:solidFill>
                <a:srgbClr val="b0761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600" spc="-1" strike="noStrike">
                  <a:solidFill>
                    <a:srgbClr val="ffffff"/>
                  </a:solidFill>
                  <a:latin typeface="Arial"/>
                  <a:ea typeface="Arial"/>
                </a:rPr>
                <a:t>A</a:t>
              </a:r>
              <a:endParaRPr b="0" lang="en-US" sz="36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406" name="Ellipse 7"/>
            <p:cNvSpPr/>
            <p:nvPr/>
          </p:nvSpPr>
          <p:spPr>
            <a:xfrm>
              <a:off x="357120" y="5429160"/>
              <a:ext cx="642960" cy="642960"/>
            </a:xfrm>
            <a:prstGeom prst="ellipse">
              <a:avLst/>
            </a:prstGeom>
            <a:solidFill>
              <a:srgbClr val="92d050"/>
            </a:solidFill>
            <a:ln w="255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600" spc="-1" strike="noStrike">
                  <a:solidFill>
                    <a:srgbClr val="ffffff"/>
                  </a:solidFill>
                  <a:latin typeface="Arial"/>
                  <a:ea typeface="Arial"/>
                </a:rPr>
                <a:t>B</a:t>
              </a:r>
              <a:endParaRPr b="0" lang="en-US" sz="36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Titr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2" descr="D:\philippe collège\B InSight\activité sismo proposition\avec caoutchouc.JPG"/>
          <p:cNvPicPr/>
          <p:nvPr/>
        </p:nvPicPr>
        <p:blipFill>
          <a:blip r:embed="rId2"/>
          <a:stretch/>
        </p:blipFill>
        <p:spPr>
          <a:xfrm>
            <a:off x="1071720" y="3214800"/>
            <a:ext cx="7172280" cy="3332160"/>
          </a:xfrm>
          <a:prstGeom prst="rect">
            <a:avLst/>
          </a:prstGeom>
          <a:ln w="0">
            <a:noFill/>
          </a:ln>
        </p:spPr>
      </p:pic>
      <p:pic>
        <p:nvPicPr>
          <p:cNvPr id="409" name="Image 4" descr="D:\philippe collège\B InSight\activité sismo proposition\20190425_150335.jpg"/>
          <p:cNvPicPr/>
          <p:nvPr/>
        </p:nvPicPr>
        <p:blipFill>
          <a:blip r:embed="rId3"/>
          <a:stretch/>
        </p:blipFill>
        <p:spPr>
          <a:xfrm>
            <a:off x="5000760" y="357120"/>
            <a:ext cx="3198600" cy="2571840"/>
          </a:xfrm>
          <a:prstGeom prst="rect">
            <a:avLst/>
          </a:prstGeom>
          <a:ln w="0">
            <a:noFill/>
          </a:ln>
        </p:spPr>
      </p:pic>
      <p:grpSp>
        <p:nvGrpSpPr>
          <p:cNvPr id="410" name="Groupe 5"/>
          <p:cNvGrpSpPr/>
          <p:nvPr/>
        </p:nvGrpSpPr>
        <p:grpSpPr>
          <a:xfrm>
            <a:off x="571680" y="4071960"/>
            <a:ext cx="642600" cy="1857240"/>
            <a:chOff x="571680" y="4071960"/>
            <a:chExt cx="642600" cy="1857240"/>
          </a:xfrm>
        </p:grpSpPr>
        <p:sp>
          <p:nvSpPr>
            <p:cNvPr id="411" name="Ellipse 6"/>
            <p:cNvSpPr/>
            <p:nvPr/>
          </p:nvSpPr>
          <p:spPr>
            <a:xfrm>
              <a:off x="571680" y="4071960"/>
              <a:ext cx="642600" cy="642960"/>
            </a:xfrm>
            <a:prstGeom prst="ellipse">
              <a:avLst/>
            </a:prstGeom>
            <a:solidFill>
              <a:srgbClr val="f0a22e"/>
            </a:solidFill>
            <a:ln w="25560">
              <a:solidFill>
                <a:srgbClr val="b0761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600" spc="-1" strike="noStrike">
                  <a:solidFill>
                    <a:srgbClr val="ffffff"/>
                  </a:solidFill>
                  <a:latin typeface="Arial"/>
                  <a:ea typeface="Arial"/>
                </a:rPr>
                <a:t>A</a:t>
              </a:r>
              <a:endParaRPr b="0" lang="en-US" sz="36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412" name="Ellipse 7"/>
            <p:cNvSpPr/>
            <p:nvPr/>
          </p:nvSpPr>
          <p:spPr>
            <a:xfrm>
              <a:off x="571680" y="5286240"/>
              <a:ext cx="642600" cy="642960"/>
            </a:xfrm>
            <a:prstGeom prst="ellipse">
              <a:avLst/>
            </a:prstGeom>
            <a:solidFill>
              <a:srgbClr val="92d050"/>
            </a:solidFill>
            <a:ln w="255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600" spc="-1" strike="noStrike">
                  <a:solidFill>
                    <a:srgbClr val="ffffff"/>
                  </a:solidFill>
                  <a:latin typeface="Arial"/>
                  <a:ea typeface="Arial"/>
                </a:rPr>
                <a:t>B</a:t>
              </a:r>
              <a:endParaRPr b="0" lang="en-US" sz="36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Titr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2" descr="D:\philippe collège\B InSight\activité sismo proposition\avec ressorts.JPG"/>
          <p:cNvPicPr/>
          <p:nvPr/>
        </p:nvPicPr>
        <p:blipFill>
          <a:blip r:embed="rId2"/>
          <a:stretch/>
        </p:blipFill>
        <p:spPr>
          <a:xfrm>
            <a:off x="857160" y="3429000"/>
            <a:ext cx="7358040" cy="3143160"/>
          </a:xfrm>
          <a:prstGeom prst="rect">
            <a:avLst/>
          </a:prstGeom>
          <a:ln w="0">
            <a:noFill/>
          </a:ln>
        </p:spPr>
      </p:pic>
      <p:pic>
        <p:nvPicPr>
          <p:cNvPr id="415" name="Image 4" descr="D:\philippe collège\B InSight\activité sismo proposition\20190425_150434.jpg"/>
          <p:cNvPicPr/>
          <p:nvPr/>
        </p:nvPicPr>
        <p:blipFill>
          <a:blip r:embed="rId3"/>
          <a:stretch/>
        </p:blipFill>
        <p:spPr>
          <a:xfrm>
            <a:off x="4786200" y="285840"/>
            <a:ext cx="3389400" cy="2786040"/>
          </a:xfrm>
          <a:prstGeom prst="rect">
            <a:avLst/>
          </a:prstGeom>
          <a:ln w="0">
            <a:noFill/>
          </a:ln>
        </p:spPr>
      </p:pic>
      <p:grpSp>
        <p:nvGrpSpPr>
          <p:cNvPr id="416" name="Groupe 5"/>
          <p:cNvGrpSpPr/>
          <p:nvPr/>
        </p:nvGrpSpPr>
        <p:grpSpPr>
          <a:xfrm>
            <a:off x="357120" y="4214880"/>
            <a:ext cx="642960" cy="1857240"/>
            <a:chOff x="357120" y="4214880"/>
            <a:chExt cx="642960" cy="1857240"/>
          </a:xfrm>
        </p:grpSpPr>
        <p:sp>
          <p:nvSpPr>
            <p:cNvPr id="417" name="Ellipse 6"/>
            <p:cNvSpPr/>
            <p:nvPr/>
          </p:nvSpPr>
          <p:spPr>
            <a:xfrm>
              <a:off x="357120" y="4214880"/>
              <a:ext cx="642960" cy="642960"/>
            </a:xfrm>
            <a:prstGeom prst="ellipse">
              <a:avLst/>
            </a:prstGeom>
            <a:solidFill>
              <a:srgbClr val="f0a22e"/>
            </a:solidFill>
            <a:ln w="25560">
              <a:solidFill>
                <a:srgbClr val="b0761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600" spc="-1" strike="noStrike">
                  <a:solidFill>
                    <a:srgbClr val="ffffff"/>
                  </a:solidFill>
                  <a:latin typeface="Arial"/>
                  <a:ea typeface="Arial"/>
                </a:rPr>
                <a:t>A</a:t>
              </a:r>
              <a:endParaRPr b="0" lang="en-US" sz="36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418" name="Ellipse 7"/>
            <p:cNvSpPr/>
            <p:nvPr/>
          </p:nvSpPr>
          <p:spPr>
            <a:xfrm>
              <a:off x="357120" y="5429160"/>
              <a:ext cx="642960" cy="642960"/>
            </a:xfrm>
            <a:prstGeom prst="ellipse">
              <a:avLst/>
            </a:prstGeom>
            <a:solidFill>
              <a:srgbClr val="92d050"/>
            </a:solidFill>
            <a:ln w="255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600" spc="-1" strike="noStrike">
                  <a:solidFill>
                    <a:srgbClr val="ffffff"/>
                  </a:solidFill>
                  <a:latin typeface="Arial"/>
                  <a:ea typeface="Arial"/>
                </a:rPr>
                <a:t>B</a:t>
              </a:r>
              <a:endParaRPr b="0" lang="en-US" sz="36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Titr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2" descr="D:\philippe collège\B InSight\activité sismo proposition\avec sable.JPG"/>
          <p:cNvPicPr/>
          <p:nvPr/>
        </p:nvPicPr>
        <p:blipFill>
          <a:blip r:embed="rId2"/>
          <a:stretch/>
        </p:blipFill>
        <p:spPr>
          <a:xfrm>
            <a:off x="857160" y="3500280"/>
            <a:ext cx="7429680" cy="3060720"/>
          </a:xfrm>
          <a:prstGeom prst="rect">
            <a:avLst/>
          </a:prstGeom>
          <a:ln w="0">
            <a:noFill/>
          </a:ln>
        </p:spPr>
      </p:pic>
      <p:grpSp>
        <p:nvGrpSpPr>
          <p:cNvPr id="421" name="Groupe 4"/>
          <p:cNvGrpSpPr/>
          <p:nvPr/>
        </p:nvGrpSpPr>
        <p:grpSpPr>
          <a:xfrm>
            <a:off x="357120" y="4214880"/>
            <a:ext cx="642960" cy="1857240"/>
            <a:chOff x="357120" y="4214880"/>
            <a:chExt cx="642960" cy="1857240"/>
          </a:xfrm>
        </p:grpSpPr>
        <p:sp>
          <p:nvSpPr>
            <p:cNvPr id="422" name="Ellipse 5"/>
            <p:cNvSpPr/>
            <p:nvPr/>
          </p:nvSpPr>
          <p:spPr>
            <a:xfrm>
              <a:off x="357120" y="4214880"/>
              <a:ext cx="642960" cy="642960"/>
            </a:xfrm>
            <a:prstGeom prst="ellipse">
              <a:avLst/>
            </a:prstGeom>
            <a:solidFill>
              <a:srgbClr val="f0a22e"/>
            </a:solidFill>
            <a:ln w="25560">
              <a:solidFill>
                <a:srgbClr val="b0761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600" spc="-1" strike="noStrike">
                  <a:solidFill>
                    <a:srgbClr val="ffffff"/>
                  </a:solidFill>
                  <a:latin typeface="Arial"/>
                  <a:ea typeface="Arial"/>
                </a:rPr>
                <a:t>A</a:t>
              </a:r>
              <a:endParaRPr b="0" lang="en-US" sz="36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423" name="Ellipse 6"/>
            <p:cNvSpPr/>
            <p:nvPr/>
          </p:nvSpPr>
          <p:spPr>
            <a:xfrm>
              <a:off x="357120" y="5429160"/>
              <a:ext cx="642960" cy="642960"/>
            </a:xfrm>
            <a:prstGeom prst="ellipse">
              <a:avLst/>
            </a:prstGeom>
            <a:solidFill>
              <a:srgbClr val="92d050"/>
            </a:solidFill>
            <a:ln w="255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600" spc="-1" strike="noStrike">
                  <a:solidFill>
                    <a:srgbClr val="ffffff"/>
                  </a:solidFill>
                  <a:latin typeface="Arial"/>
                  <a:ea typeface="Arial"/>
                </a:rPr>
                <a:t>B</a:t>
              </a:r>
              <a:endParaRPr b="0" lang="en-US" sz="36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pic>
        <p:nvPicPr>
          <p:cNvPr id="424" name="Image 7" descr="D:\philippe collège\B InSight\activité sismo proposition\20190425_151004.jpg"/>
          <p:cNvPicPr/>
          <p:nvPr/>
        </p:nvPicPr>
        <p:blipFill>
          <a:blip r:embed="rId3"/>
          <a:stretch/>
        </p:blipFill>
        <p:spPr>
          <a:xfrm>
            <a:off x="4786200" y="285840"/>
            <a:ext cx="348480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4-25T20:42:31Z</dcterms:created>
  <dc:creator>pht</dc:creator>
  <dc:description/>
  <dc:language>en-US</dc:language>
  <cp:lastModifiedBy>pht</cp:lastModifiedBy>
  <dcterms:modified xsi:type="dcterms:W3CDTF">2019-04-25T21:07:46Z</dcterms:modified>
  <cp:revision>7</cp:revision>
  <dc:subject/>
  <dc:title>Quelques réponses en images</dc:title>
</cp:coreProperties>
</file>